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5EC9-AC0E-435F-AA3C-584E36B89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2A92-34EC-4588-9B75-4FAAAE20F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63F-9CCB-4ED8-BBEE-28F28133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2A4-8658-4BC3-80CD-B8369530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9FA-1821-4D69-985C-3A67605C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6EB-BC91-4DC0-AA21-DD2519F3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043-D926-4663-8ADB-A3A01AA5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C42-53AD-4DD0-9D53-FF4F595B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D26-9A94-4D0A-B231-E857CBEF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AB8-0CD1-4E97-B6D0-0DBAE46A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D96-E2EF-4010-80B6-BFA52A6A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456-3D2E-46A5-A97E-08728AAE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669-086B-4140-85B8-1B578CD4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AFE-84ED-4536-B0C5-EB48A4D3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867B-D96A-4C7C-BF7B-9B06B01F0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Arial"/>
              </a:rPr>
              <a:t>La fecha es el 6 de octu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bre</a:t>
            </a:r>
            <a:r>
              <a:rPr b="0" lang="en-US" sz="3800" spc="-1" strike="noStrike">
                <a:solidFill>
                  <a:srgbClr val="7030a0"/>
                </a:solidFill>
                <a:latin typeface="Arial"/>
              </a:rPr>
              <a:t> del 20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2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ito # 12B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es el apartamento de tu sueñ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rooms in the ho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ROOMS%252Bwords"/>
          <p:cNvPicPr/>
          <p:nvPr/>
        </p:nvPicPr>
        <p:blipFill>
          <a:blip r:embed="rId1"/>
          <a:stretch/>
        </p:blipFill>
        <p:spPr>
          <a:xfrm>
            <a:off x="2023920" y="2819520"/>
            <a:ext cx="5748480" cy="3484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482920" y="3505320"/>
            <a:ext cx="10983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572000" y="3505320"/>
            <a:ext cx="1219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629400" y="3184560"/>
            <a:ext cx="10987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514600" y="4861080"/>
            <a:ext cx="14032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616280" y="4861080"/>
            <a:ext cx="10987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ANd9GcQ-8Dxb30VwwItBJE97hG9gxmtHGvBrypvQDkPK5LGB6JJ_5HCQpA"/>
          <p:cNvPicPr/>
          <p:nvPr/>
        </p:nvPicPr>
        <p:blipFill>
          <a:blip r:embed="rId2"/>
          <a:stretch/>
        </p:blipFill>
        <p:spPr>
          <a:xfrm>
            <a:off x="54000" y="4038480"/>
            <a:ext cx="2079720" cy="2163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228168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81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65940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419292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57380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73933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cosas en la sala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2805120" cy="28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6580080" y="102888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3429000" y="1200240"/>
            <a:ext cx="2133720" cy="2030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2"/>
          <p:cNvSpPr/>
          <p:nvPr/>
        </p:nvSpPr>
        <p:spPr>
          <a:xfrm>
            <a:off x="609480" y="29718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 so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3429000" y="3505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m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6705720" y="32306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but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4"/>
          <a:stretch/>
        </p:blipFill>
        <p:spPr>
          <a:xfrm>
            <a:off x="368280" y="4191120"/>
            <a:ext cx="2457360" cy="1857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525600" y="6172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ve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3228840" y="4280040"/>
            <a:ext cx="2562480" cy="1780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3429000" y="62024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 balc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6"/>
          <a:stretch/>
        </p:blipFill>
        <p:spPr>
          <a:xfrm>
            <a:off x="6467400" y="4038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"/>
          <p:cNvSpPr/>
          <p:nvPr/>
        </p:nvSpPr>
        <p:spPr>
          <a:xfrm>
            <a:off x="6400800" y="6186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pu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El dormitorio/ la re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á</a:t>
            </a: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mar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609480" y="1552680"/>
            <a:ext cx="2133720" cy="1726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992880" y="29718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1219320" cy="1096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898000" y="30481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elé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7146720" y="3276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ó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1219320" cy="1762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36040" y="5715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2536560" y="57913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5"/>
          <a:stretch/>
        </p:blipFill>
        <p:spPr>
          <a:xfrm>
            <a:off x="4724280" y="4724280"/>
            <a:ext cx="1408320" cy="1524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3"/>
          <p:cNvSpPr/>
          <p:nvPr/>
        </p:nvSpPr>
        <p:spPr>
          <a:xfrm>
            <a:off x="4651560" y="62485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elu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6"/>
          <a:stretch/>
        </p:blipFill>
        <p:spPr>
          <a:xfrm>
            <a:off x="6905520" y="1143000"/>
            <a:ext cx="1757520" cy="2085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6781680" y="91440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"/>
          <p:cNvPicPr/>
          <p:nvPr/>
        </p:nvPicPr>
        <p:blipFill>
          <a:blip r:embed="rId7"/>
          <a:stretch/>
        </p:blipFill>
        <p:spPr>
          <a:xfrm>
            <a:off x="4952880" y="2590920"/>
            <a:ext cx="1438560" cy="169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"/>
          <p:cNvPicPr/>
          <p:nvPr/>
        </p:nvPicPr>
        <p:blipFill>
          <a:blip r:embed="rId8"/>
          <a:stretch/>
        </p:blipFill>
        <p:spPr>
          <a:xfrm>
            <a:off x="5494320" y="1676520"/>
            <a:ext cx="9828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9"/>
          <a:stretch/>
        </p:blipFill>
        <p:spPr>
          <a:xfrm>
            <a:off x="5029200" y="2081160"/>
            <a:ext cx="522360" cy="738360"/>
          </a:xfrm>
          <a:prstGeom prst="rect">
            <a:avLst/>
          </a:prstGeom>
          <a:ln w="0">
            <a:noFill/>
          </a:ln>
        </p:spPr>
      </p:pic>
      <p:sp>
        <p:nvSpPr>
          <p:cNvPr id="93" name="Line 19"/>
          <p:cNvSpPr/>
          <p:nvPr/>
        </p:nvSpPr>
        <p:spPr>
          <a:xfrm flipH="1" flipV="1">
            <a:off x="4648320" y="1599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 flipV="1">
            <a:off x="6095880" y="12949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632640" y="1066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ám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3845160" y="12333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loj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4575600" y="42814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sa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4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1074960" cy="133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"/>
          <p:cNvPicPr/>
          <p:nvPr/>
        </p:nvPicPr>
        <p:blipFill>
          <a:blip r:embed="rId11"/>
          <a:stretch/>
        </p:blipFill>
        <p:spPr>
          <a:xfrm>
            <a:off x="6934320" y="3886200"/>
            <a:ext cx="81576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"/>
          <p:cNvPicPr/>
          <p:nvPr/>
        </p:nvPicPr>
        <p:blipFill>
          <a:blip r:embed="rId12"/>
          <a:stretch/>
        </p:blipFill>
        <p:spPr>
          <a:xfrm>
            <a:off x="7696080" y="4876920"/>
            <a:ext cx="866880" cy="131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"/>
          <p:cNvPicPr/>
          <p:nvPr/>
        </p:nvPicPr>
        <p:blipFill>
          <a:blip r:embed="rId13"/>
          <a:stretch/>
        </p:blipFill>
        <p:spPr>
          <a:xfrm>
            <a:off x="7010280" y="4952880"/>
            <a:ext cx="727200" cy="1128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8"/>
          <p:cNvSpPr/>
          <p:nvPr/>
        </p:nvSpPr>
        <p:spPr>
          <a:xfrm>
            <a:off x="7197120" y="6338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f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La cocin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63520" y="380880"/>
            <a:ext cx="1488960" cy="1914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3680" y="2286000"/>
            <a:ext cx="22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nev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refrigerado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1162080" cy="1238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295720" y="220968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stu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4361040" y="1066680"/>
            <a:ext cx="14158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4346640" y="2590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6629400" y="838080"/>
            <a:ext cx="1219320" cy="15242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6174360" y="2286000"/>
            <a:ext cx="27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est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(tacho)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bas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228600" y="3276720"/>
            <a:ext cx="971640" cy="1428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153360" y="460224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va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"/>
          <p:cNvPicPr/>
          <p:nvPr/>
        </p:nvPicPr>
        <p:blipFill>
          <a:blip r:embed="rId6"/>
          <a:stretch/>
        </p:blipFill>
        <p:spPr>
          <a:xfrm>
            <a:off x="1905120" y="3276720"/>
            <a:ext cx="1419120" cy="1114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4"/>
          <p:cNvSpPr/>
          <p:nvPr/>
        </p:nvSpPr>
        <p:spPr>
          <a:xfrm>
            <a:off x="1830240" y="4449600"/>
            <a:ext cx="15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l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920" y="4446720"/>
            <a:ext cx="128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s ol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"/>
          <p:cNvPicPr/>
          <p:nvPr/>
        </p:nvPicPr>
        <p:blipFill>
          <a:blip r:embed="rId7"/>
          <a:stretch/>
        </p:blipFill>
        <p:spPr>
          <a:xfrm>
            <a:off x="3809880" y="3200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"/>
          <p:cNvPicPr/>
          <p:nvPr/>
        </p:nvPicPr>
        <p:blipFill>
          <a:blip r:embed="rId8"/>
          <a:stretch/>
        </p:blipFill>
        <p:spPr>
          <a:xfrm>
            <a:off x="7248600" y="3124080"/>
            <a:ext cx="1209600" cy="1305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8"/>
          <p:cNvSpPr/>
          <p:nvPr/>
        </p:nvSpPr>
        <p:spPr>
          <a:xfrm>
            <a:off x="6914880" y="4495680"/>
            <a:ext cx="192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cubier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"/>
          <p:cNvPicPr/>
          <p:nvPr/>
        </p:nvPicPr>
        <p:blipFill>
          <a:blip r:embed="rId9"/>
          <a:stretch/>
        </p:blipFill>
        <p:spPr>
          <a:xfrm>
            <a:off x="304920" y="5181480"/>
            <a:ext cx="1266840" cy="971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0"/>
          <p:cNvSpPr/>
          <p:nvPr/>
        </p:nvSpPr>
        <p:spPr>
          <a:xfrm>
            <a:off x="214560" y="615960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ten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10"/>
          <a:stretch/>
        </p:blipFill>
        <p:spPr>
          <a:xfrm>
            <a:off x="2133720" y="5105520"/>
            <a:ext cx="123804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2"/>
          <p:cNvSpPr/>
          <p:nvPr/>
        </p:nvSpPr>
        <p:spPr>
          <a:xfrm>
            <a:off x="1982880" y="6126120"/>
            <a:ext cx="156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cuch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"/>
          <p:cNvPicPr/>
          <p:nvPr/>
        </p:nvPicPr>
        <p:blipFill>
          <a:blip r:embed="rId11"/>
          <a:stretch/>
        </p:blipFill>
        <p:spPr>
          <a:xfrm>
            <a:off x="3886200" y="49528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4"/>
          <p:cNvSpPr/>
          <p:nvPr/>
        </p:nvSpPr>
        <p:spPr>
          <a:xfrm>
            <a:off x="3662280" y="613584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uch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5" descr=""/>
          <p:cNvPicPr/>
          <p:nvPr/>
        </p:nvPicPr>
        <p:blipFill>
          <a:blip r:embed="rId12"/>
          <a:stretch/>
        </p:blipFill>
        <p:spPr>
          <a:xfrm>
            <a:off x="5638680" y="4952880"/>
            <a:ext cx="145728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6"/>
          <p:cNvSpPr/>
          <p:nvPr/>
        </p:nvSpPr>
        <p:spPr>
          <a:xfrm>
            <a:off x="5410800" y="6122880"/>
            <a:ext cx="17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lavapl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"/>
          <p:cNvPicPr/>
          <p:nvPr/>
        </p:nvPicPr>
        <p:blipFill>
          <a:blip r:embed="rId13"/>
          <a:stretch/>
        </p:blipFill>
        <p:spPr>
          <a:xfrm>
            <a:off x="7620120" y="4876920"/>
            <a:ext cx="1199880" cy="11998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8"/>
          <p:cNvSpPr/>
          <p:nvPr/>
        </p:nvSpPr>
        <p:spPr>
          <a:xfrm>
            <a:off x="7393320" y="6019920"/>
            <a:ext cx="172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lavado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 pl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4"/>
          <a:stretch/>
        </p:blipFill>
        <p:spPr>
          <a:xfrm>
            <a:off x="5668920" y="3218040"/>
            <a:ext cx="1006560" cy="113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5"/>
          <p:cNvSpPr/>
          <p:nvPr/>
        </p:nvSpPr>
        <p:spPr>
          <a:xfrm>
            <a:off x="5524560" y="42670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ta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800000"/>
                </a:solidFill>
                <a:latin typeface="Arial"/>
              </a:rPr>
              <a:t>El Tech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009920" y="54100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"/>
              </a:rPr>
              <a:t>El Sót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ouse_with floors"/>
          <p:cNvPicPr/>
          <p:nvPr/>
        </p:nvPicPr>
        <p:blipFill>
          <a:blip r:embed="rId1"/>
          <a:stretch/>
        </p:blipFill>
        <p:spPr>
          <a:xfrm>
            <a:off x="2438280" y="1981080"/>
            <a:ext cx="4362480" cy="4257720"/>
          </a:xfrm>
          <a:prstGeom prst="rect">
            <a:avLst/>
          </a:prstGeom>
          <a:ln w="0">
            <a:noFill/>
          </a:ln>
        </p:spPr>
      </p:pic>
      <p:sp>
        <p:nvSpPr>
          <p:cNvPr id="137" name="Line 5"/>
          <p:cNvSpPr/>
          <p:nvPr/>
        </p:nvSpPr>
        <p:spPr>
          <a:xfrm flipH="1" flipV="1">
            <a:off x="6362640" y="56970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 flipV="1">
            <a:off x="320040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495288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419720" y="1219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Comic Sans MS"/>
              </a:rPr>
              <a:t>El 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9343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a Ter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0866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a Azo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46748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V="1">
            <a:off x="6553080" y="25905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6629400" y="3048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2133360" y="3657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5335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El </a:t>
            </a: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Otro</a:t>
            </a: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 Dorm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60948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Comic Sans MS"/>
              </a:rPr>
              <a:t>Más 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528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2133720" y="1752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09480" y="4343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edr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858000" y="5958000"/>
            <a:ext cx="198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Ba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5981760" y="1927080"/>
            <a:ext cx="72396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 flipV="1">
            <a:off x="5638680" y="1738080"/>
            <a:ext cx="99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400800" y="110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d050"/>
                </a:solidFill>
                <a:latin typeface="Comic Sans MS"/>
              </a:rPr>
              <a:t>L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62940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d050"/>
                </a:solidFill>
                <a:latin typeface="Comic Sans MS"/>
              </a:rPr>
              <a:t>La alb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78168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l sótano…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51814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a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2197080" cy="35049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743200" y="52578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ec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5562720" y="1143000"/>
            <a:ext cx="2886120" cy="2228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5867280" y="3429000"/>
            <a:ext cx="2438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escal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876920" y="15228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Mas vocabulario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4800600" y="15228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2000520" cy="28958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2"/>
          <p:cNvSpPr/>
          <p:nvPr/>
        </p:nvSpPr>
        <p:spPr>
          <a:xfrm>
            <a:off x="7010280" y="449568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c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 TENER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(to ha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erbo TENER es un verbo irregular “-GO” porque en la primera persona TENER termina en “–g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erbo TENER tambien es irregular porque la RAIZ del verbo cam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se conjuga el verbo TE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3733920" y="2819520"/>
            <a:ext cx="914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724280" y="3352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947960" y="28954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oot)Ra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33526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629320" y="2895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erminacion (e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H="1">
            <a:off x="5334120" y="32004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9960" y="4292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55400" y="4815000"/>
            <a:ext cx="13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288880" y="54244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6557040" y="434340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en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6632640" y="5424480"/>
            <a:ext cx="13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Floor Plan of your favorite room in your dream apartment.  You must include all of the furniture and things in the room and make sure you label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632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MUEBLES DE LA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716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24:51Z</dcterms:created>
  <dc:creator>Helen Zumaeta</dc:creator>
  <dc:description/>
  <dc:language>en-US</dc:language>
  <cp:lastModifiedBy>Helen Zumaeta</cp:lastModifiedBy>
  <cp:lastPrinted>2014-10-03T15:39:07Z</cp:lastPrinted>
  <dcterms:modified xsi:type="dcterms:W3CDTF">2014-10-06T20:22:11Z</dcterms:modified>
  <cp:revision>26</cp:revision>
  <dc:subject/>
  <dc:title>Me llamo _________ Clase 6 nh/il La fecha es el 10 de marzo del 2011</dc:title>
</cp:coreProperties>
</file>